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move the slide</a:t>
            </a:r>
            <a:endParaRPr b="0" lang="en-US" sz="3800" spc="-1" strike="noStrike">
              <a:solidFill>
                <a:srgbClr val="ffff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A043-42AC-455C-ADE2-5A31F3082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diplomaguide.com/articles/Earning_Your_High_School_Diploma_-__New_York.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CCF4-39C2-4C1B-88A9-22A5F989498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2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Did you complete the entire 9 mont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 If you answered no, please expla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757A-D553-4313-B68D-2EEF5EAF9DC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at aspects of the program were instrumental in helping you succ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10FB-2FD2-4F68-9948-51F0D10AC25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personal issues hindered you success with the progr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0898-1AED-4821-ADCF-EE15DDEBB22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re you currently using any of the tools (budgeting skills, etc.) developed dur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099C-2BC2-4873-A1CB-19D7102C639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What Additional tools would you suggest for future C.A.S.H. Coach Program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925D-F91D-4D79-A694-7107D48809A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What is your current financial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8B71-7378-453C-85C5-1F28A1240B3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How much of your financial success is attributable to the C.A.S.H. Co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8B8F-F018-4259-BEDC-6C69A7069E7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ow would you rate the overall C.A.S.H. Coach Program (on a scale of 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1D13-88EB-4D34-8301-9BF61E7F650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urvey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0050-9622-4343-A942-216EADBEC1A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1EDC-6C1F-42B2-B562-D449BD8149F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jaj, B. &amp; Leonhardt, D. (2008, December 19). 1997 Tax Break on Home Sales May Have Helped Inflate Bubble. </a:t>
            </a:r>
            <a:r>
              <a:rPr b="0" i="1" lang="en-US" sz="1200" spc="-1" strike="noStrike">
                <a:solidFill>
                  <a:srgbClr val="000000"/>
                </a:solidFill>
                <a:latin typeface="Arial"/>
              </a:rPr>
              <a:t>The New York Times</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ens, F. (2009, January 1). 2008 Our Date with Disaster. </a:t>
            </a:r>
            <a:r>
              <a:rPr b="0" i="1" lang="en-US" sz="1200" spc="-1" strike="noStrike">
                <a:solidFill>
                  <a:srgbClr val="000000"/>
                </a:solidFill>
                <a:latin typeface="Arial"/>
              </a:rPr>
              <a:t>The Washington Post</a:t>
            </a:r>
            <a:r>
              <a:rPr b="0" lang="en-US" sz="1200" spc="-1" strike="noStrike">
                <a:solidFill>
                  <a:srgbClr val="000000"/>
                </a:solidFill>
                <a:latin typeface="Arial"/>
              </a:rPr>
              <a:t>, D.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J. (2008, December 17). Person of the Year 2008: Runners up Henry Paulson. </a:t>
            </a:r>
            <a:r>
              <a:rPr b="0" i="1" lang="en-US" sz="1200" spc="-1" strike="noStrike">
                <a:solidFill>
                  <a:srgbClr val="000000"/>
                </a:solidFill>
                <a:latin typeface="Arial"/>
              </a:rPr>
              <a:t>Time</a:t>
            </a:r>
            <a:r>
              <a:rPr b="0" lang="en-US" sz="1200" spc="-1" strike="noStrike">
                <a:solidFill>
                  <a:srgbClr val="000000"/>
                </a:solidFill>
                <a:latin typeface="Arial"/>
              </a:rPr>
              <a:t>, 172 (26), 86-8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Clinton announces another record surplus. Retrieved March 17, 2009 fro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chives.cnn.com/2000/ALLPOLITICS/stories/09/27/clinton.surpl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ucker, P., Kane P., &amp; Kornblut, A. (2009, January 25). Obama Details Recovery Plan. </a:t>
            </a:r>
            <a:r>
              <a:rPr b="0" i="1" lang="en-US" sz="1200" spc="-1" strike="noStrike">
                <a:solidFill>
                  <a:srgbClr val="000000"/>
                </a:solidFill>
                <a:latin typeface="Arial"/>
              </a:rPr>
              <a:t>The Washington Post</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e Justice Center website. Retrieved February 25, 2009 from: http://www.empirejustice.org/New/CASH/2008- 2009%20CASH%20Volunteer%20Brochure%202.pd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211E-41D7-4594-8DEB-AA324777977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70124-445F-44A7-88AB-81587C883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6968-85B2-4B73-9E37-82E705D3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AE044-0902-4CB1-867D-11C0F3825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7D9CF-DF8E-4D2F-B0FD-0E2AC7FB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7342D-577F-4683-A158-9507FBD5B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C7C8E-6CFD-4FCA-BE8A-C9192AD9C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14C6-FC86-4051-9C73-9C02A6CD8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18B2D-60D6-4709-B8E5-4515316EA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B8F30-FE22-4178-B27D-62336345A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BB42E-5009-475C-A7F0-E91F9074C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88415-9BA0-447A-868D-1CCCA4F6B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74DE-D2FC-4EC4-A6DA-0D2A568B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55A9-1B59-4B8A-8224-DB04928A0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AA79-B00D-4941-8057-9CCFB0FB3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2B43B-C923-448C-A9C9-EA0267D3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77795-6AE7-4D3E-868C-66EC566F1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3A5CC-CFEB-47B9-854F-5AED2A16D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9DAA-D04E-4D85-A84E-1CC511AD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2BD30-FB34-4EFE-99F5-A7BB76D2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2B71-09E9-42D0-94BB-350ABE566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AA6D-97B4-4B33-AA27-1384EF45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F22C-9E44-47CC-AF7B-312E4E36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6C86-AA54-4C40-8EA5-58629318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9B07-E971-4E2B-8174-D46BA808C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Oval 4"/>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Oval 5"/>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Oval 6"/>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Oval 7"/>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BAFE-8648-485C-A7A3-AF9568810B2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Beverly Murrell-Frasier</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CE64-4582-4105-85CE-13308B65BD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Oval 4"/>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Oval 5"/>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Oval 6"/>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Oval 7"/>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Oval 8"/>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C4B0-139C-433C-BB26-72BF099B7860}" type="datetime">
              <a:rPr b="0" lang="en-US" sz="1000" spc="-1" strike="noStrike">
                <a:solidFill>
                  <a:srgbClr val="ffffcc"/>
                </a:solidFill>
                <a:latin typeface="Times New Roman"/>
              </a:rPr>
              <a:t>07/29/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repared by Beverly Murrell-Frasier</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D690-6B03-4C34-BCF7-FCAF105DF00D}"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mpirejustice.org/New/CASH/2008-" TargetMode="External"/><Relationship Id="rId2" Type="http://schemas.openxmlformats.org/officeDocument/2006/relationships/hyperlink" Target="http://en.wikipedia.org/wiki/Rochester,_New_York" TargetMode="External"/><Relationship Id="rId3" Type="http://schemas.openxmlformats.org/officeDocument/2006/relationships/hyperlink" Target="http://archives.cnn.com/2000/ALLPOLITICS/stories/09/27/clinton.surplus/" TargetMode="External"/><Relationship Id="rId4" Type="http://schemas.openxmlformats.org/officeDocument/2006/relationships/hyperlink" Target="http://diplomaguide.com/articles/Earning_Your_High_School_Diploma_-__New_York.html" TargetMode="External"/><Relationship Id="rId5" Type="http://schemas.openxmlformats.org/officeDocument/2006/relationships/hyperlink" Target="http://www.empirejustice.org/cash/" TargetMode="External"/><Relationship Id="rId6" Type="http://schemas.openxmlformats.org/officeDocument/2006/relationships/hyperlink" Target="http://en.wikipedia.org/wiki/Education_in_the_United_States#Basic_curricular_structure" TargetMode="External"/><Relationship Id="rId7" Type="http://schemas.openxmlformats.org/officeDocument/2006/relationships/hyperlink" Target="http://www.balancedscorecard.org/BSCResources/aboutthebalancedscorecard"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03" name="PlaceHolder 2"/>
          <p:cNvSpPr>
            <a:spLocks noGrp="1"/>
          </p:cNvSpPr>
          <p:nvPr>
            <p:ph type="subTitle"/>
          </p:nvPr>
        </p:nvSpPr>
        <p:spPr>
          <a:xfrm>
            <a:off x="1142640" y="4723920"/>
            <a:ext cx="7162920" cy="83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esented By: Beverly Murrell-Frasier</a:t>
            </a:r>
            <a:endParaRPr b="0" lang="en-US" sz="2400" spc="-1" strike="noStrike">
              <a:solidFill>
                <a:srgbClr val="ffffcc"/>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ssion Date: September 18, 2009</a:t>
            </a:r>
            <a:endParaRPr b="0" lang="en-US" sz="2400" spc="-1" strike="noStrike">
              <a:solidFill>
                <a:srgbClr val="ffffcc"/>
              </a:solidFill>
              <a:latin typeface="Arial"/>
            </a:endParaRPr>
          </a:p>
        </p:txBody>
      </p:sp>
      <p:sp>
        <p:nvSpPr>
          <p:cNvPr id="104" name="Rectangle 4"/>
          <p:cNvSpPr/>
          <p:nvPr/>
        </p:nvSpPr>
        <p:spPr>
          <a:xfrm>
            <a:off x="762120" y="2438280"/>
            <a:ext cx="74674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tted as a Capstone Project in partial fulfillment of a Master of Science Degree in Professional Studies</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t the Rochester Institute of Technology</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Arial"/>
            </a:endParaRPr>
          </a:p>
        </p:txBody>
      </p:sp>
      <p:sp>
        <p:nvSpPr>
          <p:cNvPr id="105" name="Rectangle 5"/>
          <p:cNvSpPr/>
          <p:nvPr/>
        </p:nvSpPr>
        <p:spPr>
          <a:xfrm>
            <a:off x="838080" y="228600"/>
            <a:ext cx="7315200" cy="17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esenting Budgeting &amp; Financial Management Skills in the Community</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 Analysis of the C.A.S.H. Coach Program</a:t>
            </a:r>
            <a:endParaRPr b="0" lang="en-US" sz="24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2F19-B632-4B5F-AAE9-39AB5AE2C6F3}"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5C24-ACB2-4070-BDA3-6019E77EC319}"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3" name="PlaceHolder 1"/>
          <p:cNvSpPr>
            <a:spLocks noGrp="1"/>
          </p:cNvSpPr>
          <p:nvPr>
            <p:ph/>
          </p:nvPr>
        </p:nvSpPr>
        <p:spPr>
          <a:xfrm>
            <a:off x="228240" y="228600"/>
            <a:ext cx="84582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Timeline</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Volunteered as a C.A.S.H. Coach from Sep 2008-May 2009</a:t>
            </a:r>
            <a:endParaRPr b="0" lang="en-US" sz="18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onducted a survey analysis of C.A.S.H. Partners, June-August 2009</a:t>
            </a:r>
            <a:endParaRPr b="0" lang="en-US" sz="1800" spc="-1" strike="noStrike">
              <a:solidFill>
                <a:srgbClr val="ffffcc"/>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Objectives</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 provided a marginal solution to the financial hardships faced by many low income and underprivileged individuals, by providing one-on-one coaching and advisement through the C.A.S.H. (Creating Assets Savings and Hope) Coach Program</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ssisted one individual with improving their finance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The C.A.S.H. partner learned how to develop a budget, pay bills on-time, save more $$, make better purchasing decision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I of the project consisted of a survey analysis of former C.A.S.H. Coach Program Partners</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8C2C-AB4D-4E63-9589-2694A4B586AE}"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69F0-B519-473D-967C-3A0408AC522D}"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7" name="PlaceHolder 1"/>
          <p:cNvSpPr>
            <a:spLocks noGrp="1"/>
          </p:cNvSpPr>
          <p:nvPr>
            <p:ph/>
          </p:nvPr>
        </p:nvSpPr>
        <p:spPr>
          <a:xfrm>
            <a:off x="380880" y="380880"/>
            <a:ext cx="8305920" cy="5562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The C.A.S.H. Coach Program used the following tools to measure the success of the program:</a:t>
            </a:r>
            <a:endParaRPr b="0" lang="en-US" sz="2400" spc="-1" strike="noStrike">
              <a:solidFill>
                <a:srgbClr val="ffff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3040" indent="-285840">
              <a:lnSpc>
                <a:spcPct val="10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nthly Session Reports</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t Worth Calculation (Compared partner’s net worth at the end of the program to their beginning net worth)</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otal Dollars Saved</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ecreased Debt</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reased Credit Scor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6A01-0C02-4C6D-BAD9-0FBF982C1BD6}"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F2AA-29F4-4359-84E1-ACCE6751E427}"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1" name="PlaceHolder 1"/>
          <p:cNvSpPr>
            <a:spLocks noGrp="1"/>
          </p:cNvSpPr>
          <p:nvPr>
            <p:ph/>
          </p:nvPr>
        </p:nvSpPr>
        <p:spPr>
          <a:xfrm>
            <a:off x="609480" y="533520"/>
            <a:ext cx="7848720" cy="53337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endParaRPr b="0" lang="en-US" sz="2800" spc="-1" strike="noStrike">
              <a:solidFill>
                <a:srgbClr val="ffffcc"/>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 addition to the tools provided by the C.A.S.H. Coach Program, I conducted a survey analysis of former C.A.S.H. Partner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is justified per the Balanced Scorecard Approach as a valid measurement tool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tacted former partners that participated between 2006-2008 to survey their experience with the program</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had a response rate of 36%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C.A.S.H. Program Coordinators were very satisfied with the result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20-30% failure rate covers individuals that did not complete the entire nine- month program</a:t>
            </a:r>
            <a:endParaRPr b="0" lang="en-US" sz="2000" spc="-1" strike="noStrike">
              <a:solidFill>
                <a:srgbClr val="ffffcc"/>
              </a:solidFill>
              <a:latin typeface="Arial"/>
            </a:endParaRPr>
          </a:p>
          <a:p>
            <a:pPr lvl="1" marL="743040" indent="0">
              <a:lnSpc>
                <a:spcPct val="14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1BF8-2EF1-40B2-9D94-435607B9798D}"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7CBA-46BE-4CB3-93C5-09FBA7EFB336}"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46" name="Object 3"/>
          <p:cNvGraphicFramePr/>
          <p:nvPr/>
        </p:nvGraphicFramePr>
        <p:xfrm>
          <a:off x="838080" y="1295280"/>
          <a:ext cx="7696440" cy="4724640"/>
        </p:xfrm>
        <a:graphic>
          <a:graphicData uri="http://schemas.openxmlformats.org/presentationml/2006/ole">
            <p:oleObj progId="Excel.Sheet.12" r:id="rId1" spid="">
              <p:embed/>
              <p:pic>
                <p:nvPicPr>
                  <p:cNvPr id="147" name="Object 3" descr=""/>
                  <p:cNvPicPr/>
                  <p:nvPr/>
                </p:nvPicPr>
                <p:blipFill>
                  <a:blip r:embed="rId2"/>
                  <a:stretch/>
                </p:blipFill>
                <p:spPr>
                  <a:xfrm>
                    <a:off x="838080" y="1295280"/>
                    <a:ext cx="76964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C0E7-3191-4254-B689-162452620C5F}"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4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761D-C424-47A0-8F48-7D98BCEA6A1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52" name="Object 4"/>
          <p:cNvGraphicFramePr/>
          <p:nvPr/>
        </p:nvGraphicFramePr>
        <p:xfrm>
          <a:off x="762120" y="1447920"/>
          <a:ext cx="7619760" cy="3733560"/>
        </p:xfrm>
        <a:graphic>
          <a:graphicData uri="http://schemas.openxmlformats.org/presentationml/2006/ole">
            <p:oleObj progId="Excel.Sheet.12" r:id="rId1" spid="">
              <p:embed/>
              <p:pic>
                <p:nvPicPr>
                  <p:cNvPr id="153" name="Object 4" descr=""/>
                  <p:cNvPicPr/>
                  <p:nvPr/>
                </p:nvPicPr>
                <p:blipFill>
                  <a:blip r:embed="rId2"/>
                  <a:stretch/>
                </p:blipFill>
                <p:spPr>
                  <a:xfrm>
                    <a:off x="762120" y="1447920"/>
                    <a:ext cx="7619760" cy="3733560"/>
                  </a:xfrm>
                  <a:prstGeom prst="rect">
                    <a:avLst/>
                  </a:prstGeom>
                  <a:ln w="0">
                    <a:noFill/>
                  </a:ln>
                </p:spPr>
              </p:pic>
            </p:oleObj>
          </a:graphicData>
        </a:graphic>
      </p:graphicFrame>
      <p:graphicFrame>
        <p:nvGraphicFramePr>
          <p:cNvPr id="154" name=""/>
          <p:cNvGraphicFramePr/>
          <p:nvPr/>
        </p:nvGraphicFramePr>
        <p:xfrm>
          <a:off x="1143000" y="5516640"/>
          <a:ext cx="6629400" cy="1341360"/>
        </p:xfrm>
        <a:graphic>
          <a:graphicData uri="http://schemas.openxmlformats.org/drawingml/2006/table">
            <a:tbl>
              <a:tblPr/>
              <a:tblGrid>
                <a:gridCol w="1104840"/>
                <a:gridCol w="1104840"/>
                <a:gridCol w="1105200"/>
                <a:gridCol w="1104840"/>
                <a:gridCol w="1104840"/>
                <a:gridCol w="1104840"/>
              </a:tblGrid>
              <a:tr h="82404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The availability of food allowed partners to come straight from </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work or home w/o worrying </a:t>
                      </a:r>
                      <a:r>
                        <a:rPr b="1" lang="en-US" sz="1600" spc="-1" strike="noStrike">
                          <a:solidFill>
                            <a:srgbClr val="ffffcc"/>
                          </a:solidFill>
                          <a:latin typeface="Arial"/>
                        </a:rPr>
                        <a:t>about preparing dinne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8AA5-4469-4905-90FE-B8255B49D9D9}"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7810-0D77-4315-8C78-8DD499452A92}"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59" name="Object 4"/>
          <p:cNvGraphicFramePr/>
          <p:nvPr/>
        </p:nvGraphicFramePr>
        <p:xfrm>
          <a:off x="838080" y="1676520"/>
          <a:ext cx="7391520" cy="4267080"/>
        </p:xfrm>
        <a:graphic>
          <a:graphicData uri="http://schemas.openxmlformats.org/presentationml/2006/ole">
            <p:oleObj progId="Excel.Sheet.12" r:id="rId1" spid="">
              <p:embed/>
              <p:pic>
                <p:nvPicPr>
                  <p:cNvPr id="160" name="Object 4" descr=""/>
                  <p:cNvPicPr/>
                  <p:nvPr/>
                </p:nvPicPr>
                <p:blipFill>
                  <a:blip r:embed="rId2"/>
                  <a:stretch/>
                </p:blipFill>
                <p:spPr>
                  <a:xfrm>
                    <a:off x="838080" y="1676520"/>
                    <a:ext cx="73915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D882-2167-409C-AE25-954DB54D76B8}"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6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4BC2-B09D-4611-8810-0F1A7734D80C}"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65" name="Object 6"/>
          <p:cNvGraphicFramePr/>
          <p:nvPr/>
        </p:nvGraphicFramePr>
        <p:xfrm>
          <a:off x="685800" y="1523880"/>
          <a:ext cx="7772400" cy="4419720"/>
        </p:xfrm>
        <a:graphic>
          <a:graphicData uri="http://schemas.openxmlformats.org/presentationml/2006/ole">
            <p:oleObj progId="Excel.Sheet.12" r:id="rId1" spid="">
              <p:embed/>
              <p:pic>
                <p:nvPicPr>
                  <p:cNvPr id="166" name="Object 6" descr=""/>
                  <p:cNvPicPr/>
                  <p:nvPr/>
                </p:nvPicPr>
                <p:blipFill>
                  <a:blip r:embed="rId2"/>
                  <a:stretch/>
                </p:blipFill>
                <p:spPr>
                  <a:xfrm>
                    <a:off x="685800" y="152388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E2BF-5968-4B1D-99A0-569AB79497E4}"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F1F1-8A13-410E-93C2-06609EE920B9}"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1" name="Object 3"/>
          <p:cNvGraphicFramePr/>
          <p:nvPr/>
        </p:nvGraphicFramePr>
        <p:xfrm>
          <a:off x="380880" y="1676520"/>
          <a:ext cx="8305920" cy="3606840"/>
        </p:xfrm>
        <a:graphic>
          <a:graphicData uri="http://schemas.openxmlformats.org/presentationml/2006/ole">
            <p:oleObj progId="Excel.Sheet.12" r:id="rId1" spid="">
              <p:embed/>
              <p:pic>
                <p:nvPicPr>
                  <p:cNvPr id="172" name="Object 3" descr=""/>
                  <p:cNvPicPr/>
                  <p:nvPr/>
                </p:nvPicPr>
                <p:blipFill>
                  <a:blip r:embed="rId2"/>
                  <a:stretch/>
                </p:blipFill>
                <p:spPr>
                  <a:xfrm>
                    <a:off x="380880" y="1676520"/>
                    <a:ext cx="8305920" cy="36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E3DA-C821-471A-98C9-70EFF11F570E}"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7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7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F85C-5BA8-434C-9213-335D34A1EEE1}"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7" name="Object 3"/>
          <p:cNvGraphicFramePr/>
          <p:nvPr/>
        </p:nvGraphicFramePr>
        <p:xfrm>
          <a:off x="1066680" y="2514600"/>
          <a:ext cx="6858000" cy="3146400"/>
        </p:xfrm>
        <a:graphic>
          <a:graphicData uri="http://schemas.openxmlformats.org/presentationml/2006/ole">
            <p:oleObj progId="Excel.Sheet.12" r:id="rId1" spid="">
              <p:embed/>
              <p:pic>
                <p:nvPicPr>
                  <p:cNvPr id="178" name="Object 3" descr=""/>
                  <p:cNvPicPr/>
                  <p:nvPr/>
                </p:nvPicPr>
                <p:blipFill>
                  <a:blip r:embed="rId2"/>
                  <a:stretch/>
                </p:blipFill>
                <p:spPr>
                  <a:xfrm>
                    <a:off x="1066680" y="2514600"/>
                    <a:ext cx="6858000" cy="3146400"/>
                  </a:xfrm>
                  <a:prstGeom prst="rect">
                    <a:avLst/>
                  </a:prstGeom>
                  <a:ln w="0">
                    <a:noFill/>
                  </a:ln>
                </p:spPr>
              </p:pic>
            </p:oleObj>
          </a:graphicData>
        </a:graphic>
      </p:graphicFrame>
      <p:sp>
        <p:nvSpPr>
          <p:cNvPr id="179" name="Rectangle 76"/>
          <p:cNvSpPr/>
          <p:nvPr/>
        </p:nvSpPr>
        <p:spPr>
          <a:xfrm>
            <a:off x="90360" y="1752480"/>
            <a:ext cx="843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urrent Financial Position:</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etter, Worse, or the Same as before entering the C.A.S.H. Coach Program)</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773E-ABB8-4D7B-BA9F-611B717E181F}"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A6A1-151C-4958-8B4F-9117F803D15D}"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84" name="Object 3"/>
          <p:cNvGraphicFramePr/>
          <p:nvPr/>
        </p:nvGraphicFramePr>
        <p:xfrm>
          <a:off x="457200" y="1981080"/>
          <a:ext cx="8153280" cy="3827520"/>
        </p:xfrm>
        <a:graphic>
          <a:graphicData uri="http://schemas.openxmlformats.org/presentationml/2006/ole">
            <p:oleObj progId="Excel.Sheet.12" r:id="rId1" spid="">
              <p:embed/>
              <p:pic>
                <p:nvPicPr>
                  <p:cNvPr id="185" name="Object 3" descr=""/>
                  <p:cNvPicPr/>
                  <p:nvPr/>
                </p:nvPicPr>
                <p:blipFill>
                  <a:blip r:embed="rId2"/>
                  <a:stretch/>
                </p:blipFill>
                <p:spPr>
                  <a:xfrm>
                    <a:off x="457200" y="1981080"/>
                    <a:ext cx="8153280" cy="382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3520" y="990720"/>
            <a:ext cx="8001000" cy="530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MPLOYMENT HISTORY</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American Red Cross, Rochester, NY, 05/08-Present</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R.I.T., Rochester, NY, 09/98-06/07</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ccountant, Urban League of Rochester, Rochester, NY, 01/96-09/98</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DUCATION &amp; TRAINING</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S., Business Mgt. &amp; Customer Svc, R.I.T., 2009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B.S., Accounting, St. John Fisher College,  Rochester, NY, 1991</a:t>
            </a: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 Training:</a:t>
            </a:r>
            <a:r>
              <a:rPr b="0" lang="en-US" sz="2000" spc="-1" strike="noStrike">
                <a:solidFill>
                  <a:srgbClr val="ffffcc"/>
                </a:solidFill>
                <a:latin typeface="Times New Roman"/>
              </a:rPr>
              <a:t>   </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Jackson Hewitt, Rochester, NY, Accelerated Tax Training Course, 1999</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mp;R Block, Rochester,  NY,  Basic Tax Training Course, 1992</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07" name="Rectangle 5"/>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4CB0-A71D-4D07-A10B-B407AC28A6B2}"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21A0-7DAB-4A7D-9A52-DED1DEF09CD2}"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90" name="Object 3"/>
          <p:cNvGraphicFramePr/>
          <p:nvPr/>
        </p:nvGraphicFramePr>
        <p:xfrm>
          <a:off x="762120" y="1828800"/>
          <a:ext cx="7467480" cy="3922560"/>
        </p:xfrm>
        <a:graphic>
          <a:graphicData uri="http://schemas.openxmlformats.org/presentationml/2006/ole">
            <p:oleObj progId="Excel.Sheet.12" r:id="rId1" spid="">
              <p:embed/>
              <p:pic>
                <p:nvPicPr>
                  <p:cNvPr id="191" name="Object 3" descr=""/>
                  <p:cNvPicPr/>
                  <p:nvPr/>
                </p:nvPicPr>
                <p:blipFill>
                  <a:blip r:embed="rId2"/>
                  <a:stretch/>
                </p:blipFill>
                <p:spPr>
                  <a:xfrm>
                    <a:off x="762120" y="1828800"/>
                    <a:ext cx="746748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8FEC-8929-4289-BFBD-90F74EB8CF1D}"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605E-8277-4ABA-8287-0A1BD8AD5DC8}"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br>
              <a:rPr sz="2800"/>
            </a:br>
            <a:endParaRPr b="0" lang="en-US" sz="2800" spc="-1" strike="noStrike">
              <a:solidFill>
                <a:srgbClr val="ffffcc"/>
              </a:solidFill>
              <a:latin typeface="Arial"/>
            </a:endParaRPr>
          </a:p>
        </p:txBody>
      </p:sp>
      <p:sp>
        <p:nvSpPr>
          <p:cNvPr id="196" name="PlaceHolder 2"/>
          <p:cNvSpPr>
            <a:spLocks noGrp="1"/>
          </p:cNvSpPr>
          <p:nvPr>
            <p:ph/>
          </p:nvPr>
        </p:nvSpPr>
        <p:spPr>
          <a:xfrm>
            <a:off x="304920" y="1066680"/>
            <a:ext cx="8229600" cy="51055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nclusion:</a:t>
            </a:r>
            <a:endParaRPr b="0" lang="en-US" sz="24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C.A.S.H. Coach Program has yielded positive results in the community</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8% success rate among previous C.A.S.H. partners that were polled</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0% of former partners have a better financial position</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1% of former partners attributed 80-100% of  their financial success to the C.A.S.H. Coach Program</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94% of former partner gave the program a rating of 8 or higher (on a scale of 1-10)</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5D5A-C5D7-4794-9CE4-2BC623729A50}"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6837-748F-47DA-8893-E4BC44EB81A6}"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0" name="PlaceHolder 1"/>
          <p:cNvSpPr>
            <a:spLocks noGrp="1"/>
          </p:cNvSpPr>
          <p:nvPr>
            <p:ph type="title"/>
          </p:nvPr>
        </p:nvSpPr>
        <p:spPr>
          <a:xfrm>
            <a:off x="380880" y="30456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1" name="PlaceHolder 2"/>
          <p:cNvSpPr>
            <a:spLocks noGrp="1"/>
          </p:cNvSpPr>
          <p:nvPr>
            <p:ph/>
          </p:nvPr>
        </p:nvSpPr>
        <p:spPr>
          <a:xfrm>
            <a:off x="380880" y="1218960"/>
            <a:ext cx="8229600" cy="4530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ommendations for the C.A.S.H. Coach Program:</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ailed screening process for applicant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emphasis on goal-setting</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cter guidelines for partner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debt management information</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d Retirement Plans as a discussion topi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B1B8-176F-4D2F-B0EB-7A36B428DDCB}"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AA0A-16D0-49C8-87F3-ED40BB6D3E6D}"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5" name="PlaceHolder 1"/>
          <p:cNvSpPr>
            <a:spLocks noGrp="1"/>
          </p:cNvSpPr>
          <p:nvPr>
            <p:ph type="title"/>
          </p:nvPr>
        </p:nvSpPr>
        <p:spPr>
          <a:xfrm>
            <a:off x="457200" y="5331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s for Beverly Murrell-Frasier:</a:t>
            </a:r>
            <a:endParaRPr b="0" lang="en-US" sz="2800" spc="-1" strike="noStrike">
              <a:solidFill>
                <a:srgbClr val="ffffcc"/>
              </a:solidFill>
              <a:latin typeface="Arial"/>
            </a:endParaRPr>
          </a:p>
          <a:p>
            <a:pPr lvl="1" marL="743040" indent="-285840">
              <a:lnSpc>
                <a:spcPct val="100000"/>
              </a:lnSpc>
              <a:spcBef>
                <a:spcPts val="675"/>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Obtain grants in order to continue the initiatives set forth in this project</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local school district to add a personal finance course to the curriculum</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Dept. of Education to add a personal finance course to the curriculum</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2A85-11D8-4684-B45E-912A6B9CF916}"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614D-E14B-462C-8CE8-0342DE9F3C6E}"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ccesses :</a:t>
            </a: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overall curriculum was successfully completed</a:t>
            </a:r>
            <a:endParaRPr b="0" lang="en-US" sz="20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Phases of the Capstone Project were completed according to plan</a:t>
            </a:r>
            <a:endParaRPr b="0" lang="en-US" sz="2000" spc="-1" strike="noStrike">
              <a:solidFill>
                <a:srgbClr val="ffffcc"/>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mprovements:</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earlier to discuss Capstone Project</a:t>
            </a:r>
            <a:endParaRPr b="0" lang="en-US" sz="2000" spc="-1" strike="noStrike">
              <a:solidFill>
                <a:srgbClr val="ffff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1A41-FCA3-4509-A0C8-7BA78A805CD1}"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C69A-7344-448D-9B76-32A915417EA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5"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commendations to Future Capstone Students :</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lete coursework for the program as soon as possible to avoid curriculum changes due to eliminated course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prior to completing coursework to discuss Capstone Project idea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the feasibility of the project prior to completing coursework (my original project proposal was not feasible considering the structure of the program, although it was initially accepted)</a:t>
            </a: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48B3-4E4C-4BCC-8D1F-69D738783547}"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C8FB-D396-4929-9E86-D134FDDE3A8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anks &amp; Acknowledgements:</a:t>
            </a:r>
            <a:endParaRPr b="0" lang="en-US" sz="2800" spc="-1" strike="noStrike">
              <a:solidFill>
                <a:srgbClr val="ffffcc"/>
              </a:solidFill>
              <a:latin typeface="Arial"/>
            </a:endParaRPr>
          </a:p>
        </p:txBody>
      </p:sp>
      <p:sp>
        <p:nvSpPr>
          <p:cNvPr id="22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nks to my Lord &amp; Savior for his guidance and wisdom</a:t>
            </a: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al thanks to my family for their support, especially my mom, Rev. Johnnye L. Murrell-Shaw, D.D. for her encouragement, and my husband, Robert Frasier, Jr. for his patience and understanding</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dice Lucas, Assistant Director of C.A.S.H. and Chad Rieflin, Credit Education Bureau Director, Coordinators of the C.A.S.H. Coach Program</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arb Lisena, Accounting Manager, American Red Cross, for serving as my Project Consultant</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r. Samuel McQuade, CMS Graduate Coordinator</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43FD-9E58-4B53-8DD9-2C803BC8CCAD}"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F855-6ED8-4019-BF5C-D120C1598510}"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ferences :</a:t>
            </a:r>
            <a:r>
              <a:rPr b="0" lang="en-US" sz="3800" spc="-1" strike="noStrike">
                <a:solidFill>
                  <a:srgbClr val="ffffcc"/>
                </a:solidFill>
                <a:latin typeface="Arial"/>
              </a:rPr>
              <a:t> </a:t>
            </a:r>
            <a:endParaRPr b="0" lang="en-US" sz="3800" spc="-1" strike="noStrike">
              <a:solidFill>
                <a:srgbClr val="ffffcc"/>
              </a:solidFill>
              <a:latin typeface="Arial"/>
            </a:endParaRPr>
          </a:p>
        </p:txBody>
      </p:sp>
      <p:sp>
        <p:nvSpPr>
          <p:cNvPr id="226" name="PlaceHolder 2"/>
          <p:cNvSpPr>
            <a:spLocks noGrp="1"/>
          </p:cNvSpPr>
          <p:nvPr>
            <p:ph/>
          </p:nvPr>
        </p:nvSpPr>
        <p:spPr>
          <a:xfrm>
            <a:off x="380880" y="1371240"/>
            <a:ext cx="8305920" cy="4800600"/>
          </a:xfrm>
          <a:prstGeom prst="rect">
            <a:avLst/>
          </a:prstGeom>
          <a:noFill/>
          <a:ln w="0">
            <a:noFill/>
          </a:ln>
        </p:spPr>
        <p:txBody>
          <a:bodyPr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hrens, F. (2009, January 1). 2008 Our Date with Disaster.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D.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jaj, B. &amp; Leonhardt, D. (2008, December 19). 1997 Tax Break on Home Sales May Have Helped Inflate Bubble.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x, J. (2008, December 17). Person of the Year 2008: Runners up Henry Paulson. </a:t>
            </a:r>
            <a:r>
              <a:rPr b="0" i="1" lang="en-US" sz="1200" spc="-1" strike="noStrike">
                <a:solidFill>
                  <a:srgbClr val="ffffcc"/>
                </a:solidFill>
                <a:latin typeface="Times New Roman"/>
              </a:rPr>
              <a:t>Time</a:t>
            </a:r>
            <a:r>
              <a:rPr b="0" lang="en-US" sz="1200" spc="-1" strike="noStrike">
                <a:solidFill>
                  <a:srgbClr val="ffffcc"/>
                </a:solidFill>
                <a:latin typeface="Times New Roman"/>
              </a:rPr>
              <a:t>, 172 (26), 86-87.</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drews, E.L. (2009, January 8). A Crisis Trumps Constraint.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B1, B5.</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ucker, P., Kane P., &amp; Kornblut, A. (2009, January 25). Obama Details Recovery Plan.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nleavy, M.P. (2008, August). 5 Most Common Money Mistakes. </a:t>
            </a:r>
            <a:r>
              <a:rPr b="0" i="1" lang="en-US" sz="1200" spc="-1" strike="noStrike">
                <a:solidFill>
                  <a:srgbClr val="ffffcc"/>
                </a:solidFill>
                <a:latin typeface="Times New Roman"/>
              </a:rPr>
              <a:t>Good Housekeeping</a:t>
            </a:r>
            <a:r>
              <a:rPr b="0" lang="en-US" sz="1200" spc="-1" strike="noStrike">
                <a:solidFill>
                  <a:srgbClr val="ffffcc"/>
                </a:solidFill>
                <a:latin typeface="Times New Roman"/>
              </a:rPr>
              <a:t>, 247 (2), 103-10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lmeri, C. (2008, November 10). Debit-Card Evolution. </a:t>
            </a:r>
            <a:r>
              <a:rPr b="0" i="1" lang="en-US" sz="1200" spc="-1" strike="noStrike">
                <a:solidFill>
                  <a:srgbClr val="ffffcc"/>
                </a:solidFill>
                <a:latin typeface="Times New Roman"/>
              </a:rPr>
              <a:t>Business Week</a:t>
            </a:r>
            <a:r>
              <a:rPr b="0" lang="en-US" sz="1200" spc="-1" strike="noStrike">
                <a:solidFill>
                  <a:srgbClr val="ffffcc"/>
                </a:solidFill>
                <a:latin typeface="Times New Roman"/>
              </a:rPr>
              <a:t>, 4107, 23-24.</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ngla, I. S. (2007, December). Are Your Kids on Track? </a:t>
            </a:r>
            <a:r>
              <a:rPr b="0" i="1" lang="en-US" sz="1200" spc="-1" strike="noStrike">
                <a:solidFill>
                  <a:srgbClr val="ffffcc"/>
                </a:solidFill>
                <a:latin typeface="Times New Roman"/>
              </a:rPr>
              <a:t>Money Magazine</a:t>
            </a:r>
            <a:r>
              <a:rPr b="0" lang="en-US" sz="1200" spc="-1" strike="noStrike">
                <a:solidFill>
                  <a:srgbClr val="ffffcc"/>
                </a:solidFill>
                <a:latin typeface="Times New Roman"/>
              </a:rPr>
              <a:t>, 36 (12), 4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King, Diane (2007, November). All About Business. </a:t>
            </a:r>
            <a:r>
              <a:rPr b="0" i="1" lang="en-US" sz="1200" spc="-1" strike="noStrike">
                <a:solidFill>
                  <a:srgbClr val="ffffcc"/>
                </a:solidFill>
                <a:latin typeface="Times New Roman"/>
              </a:rPr>
              <a:t>Black Enterprise</a:t>
            </a:r>
            <a:r>
              <a:rPr b="0" lang="en-US" sz="1200" spc="-1" strike="noStrike">
                <a:solidFill>
                  <a:srgbClr val="ffffcc"/>
                </a:solidFill>
                <a:latin typeface="Times New Roman"/>
              </a:rPr>
              <a:t>, 38 (4), 71-72.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mpire Justice Center website. Retrieved February 25, 2009 from: </a:t>
            </a:r>
            <a:r>
              <a:rPr b="0" lang="en-US" sz="1200" spc="-1" strike="noStrike" u="sng">
                <a:solidFill>
                  <a:srgbClr val="637d95"/>
                </a:solidFill>
                <a:uFillTx/>
                <a:latin typeface="Times New Roman"/>
                <a:hlinkClick r:id="rId1"/>
              </a:rPr>
              <a:t>http://www.empirejustice.org/New/CASH/2008-</a:t>
            </a:r>
            <a:r>
              <a:rPr b="0" lang="en-US" sz="1200" spc="-1" strike="noStrike">
                <a:solidFill>
                  <a:srgbClr val="ffffcc"/>
                </a:solidFill>
                <a:latin typeface="Times New Roman"/>
              </a:rPr>
              <a:t> 2009%20CASH%20Volunteer%20Brochure%202.pdf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ochester, New York. Retrieved February 25, 2009 from:  </a:t>
            </a:r>
            <a:r>
              <a:rPr b="0" lang="en-US" sz="1200" spc="-1" strike="noStrike" u="sng">
                <a:solidFill>
                  <a:srgbClr val="637d95"/>
                </a:solidFill>
                <a:uFillTx/>
                <a:latin typeface="Times New Roman"/>
                <a:hlinkClick r:id="rId2"/>
              </a:rPr>
              <a:t>http://en.wikipedia.org/wiki/Rochester,_New_York</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resident Clinton announces another record surplus. Retrieved March 17, 2009 from: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3"/>
              </a:rPr>
              <a:t>http://archives.cnn.com/2000/ALLPOLITICS/stories/09/27/clinton.surplus/</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iploma Guide.com website. Retrieved September 7, 20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4"/>
              </a:rPr>
              <a:t>http://diplomaguide.com/articles/Earning_Your_High_School_Diploma_-__New_York.html</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S.H. Coalition Information.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5"/>
              </a:rPr>
              <a:t>http://www.empirejustice.org/cash/</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Education in the United States website.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6"/>
              </a:rPr>
              <a:t>http://en.wikipedia.org/wiki/Education_in_the_United_States#Basic_curricular_structure</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7"/>
              </a:rPr>
              <a:t>http://www.balancedscorecard.org/BSCResources/aboutthebalancedscorecard</a:t>
            </a:r>
            <a:endParaRPr b="0" lang="en-US" sz="1200" spc="-1" strike="noStrike">
              <a:solidFill>
                <a:srgbClr val="ffffcc"/>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33520" y="990720"/>
            <a:ext cx="8001000" cy="54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mmary of Qualifications:</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urrently responsible for the financial administration and financial reporting for 5 American Red Cross Chapters including Northern, NJ, Cayuga, NY, Sullivan, NY, and Livingston, NY</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cilitated budgeting, financial management and accounting seminars, classes, and workshops. Performed accounting functions for restricted funds, including grants, gifts, designated funds, endowment earnings, etc. for over 10 years in non-profit organization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ndled general ledger reconciliation, accounts payable processing, accounts receivable duties at the university level for 9 year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miliar with OMB Circulars A21, A110 and A133 Audit and Grant Administration Guidelines. </a:t>
            </a:r>
            <a:endParaRPr b="0" lang="en-US" sz="1800" spc="-1" strike="noStrike">
              <a:solidFill>
                <a:srgbClr val="ffffcc"/>
              </a:solidFill>
              <a:latin typeface="Arial"/>
            </a:endParaRPr>
          </a:p>
        </p:txBody>
      </p:sp>
      <p:sp>
        <p:nvSpPr>
          <p:cNvPr id="109" name="Rectangle 3"/>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3520" y="990720"/>
            <a:ext cx="8001000" cy="5031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urse Concentration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Backgroun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Statement</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Description</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Resul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Step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essons Learne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anks &amp; Acknowledgemen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ferences &amp; Resources</a:t>
            </a:r>
            <a:endParaRPr b="0" lang="en-US" sz="2400" spc="-1" strike="noStrike">
              <a:solidFill>
                <a:srgbClr val="ffffcc"/>
              </a:solidFill>
              <a:latin typeface="Arial"/>
            </a:endParaRPr>
          </a:p>
        </p:txBody>
      </p:sp>
      <p:sp>
        <p:nvSpPr>
          <p:cNvPr id="111" name="Rectangle 3"/>
          <p:cNvSpPr/>
          <p:nvPr/>
        </p:nvSpPr>
        <p:spPr>
          <a:xfrm>
            <a:off x="838080" y="2286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verview</a:t>
            </a:r>
            <a:endParaRPr b="0" lang="en-US" sz="2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3"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Cours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ntext &amp; Trend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apstone Projec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A:</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rganizational Behavior</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Winter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naging Org. Chang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havioral Skills for Mgr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usiness Eth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4"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6"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B:</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lements of Service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ustomer Relationship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eakthrough Thinking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rvice Performance Metr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pring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iv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ublic Administration &amp; Managemen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reating Technical Proposal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7"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70C0-0127-49CF-A761-4CE8D89B5DC2}"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B37C-BD5E-42BA-A657-98D2D1D43B66}"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1"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verall lack of adequate budgeting &amp; financial management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w-income &amp; underprivileged individuals and families lack the resources to learn budgeting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NYS) &amp; National school requirements do not list accounting courses in the curriculum</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complete educational training w/o taking personal finance course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eads to poor spending habits and bad financial decision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urrent economic crisis has caused many families to lose homes/job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070C-E4E4-4861-9FC7-DA41FCE9E813}"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D6C0-86D3-459D-B004-8F6663199C5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5" name="PlaceHolder 1"/>
          <p:cNvSpPr>
            <a:spLocks noGrp="1"/>
          </p:cNvSpPr>
          <p:nvPr>
            <p:ph/>
          </p:nvPr>
        </p:nvSpPr>
        <p:spPr>
          <a:xfrm>
            <a:off x="533520" y="380520"/>
            <a:ext cx="8229600" cy="55213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P. Morgan Chase purchased the failing Bear Sterns (2008)</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government seized control of Fannie Mae &amp; Freddie Mac</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fiscal budget carried a deficit until the Clinton Administration</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resident Obama noted that “our economy could fall $1 trillion short of its capacity </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programs such as C.A.S.H. were developed to assist citizens of the local community w/ financial hardship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93D9-F6DF-40BE-BE87-3175487F99BF}"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E430-1952-41AA-8919-91D18E84CB5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9"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Statement:</a:t>
            </a:r>
            <a:endParaRPr b="0" lang="en-US" sz="2800" spc="-1" strike="noStrike">
              <a:solidFill>
                <a:srgbClr val="ffffcc"/>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Capstone Project addresses the financial hardships faced by low income and underprivileged members of the Rochester-area and surrounding community, which is partially an end-result of inadequate budgeting and financial management skills.</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project also provides an analysis of the impact of the C.A.S.H. Coach Program (Funded by United Way and Collaborating Partners) on the finances of individuals who participated in the nine-month program. </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 participated in the nine-month C.A.S.H. Coach Program as a coach, and also worked with the Assistant Director of C.A.S.H. to perform a detailed analysis in order to determine whether or not the provision of community-based budgeting and financial management programs are truly an asset to Rochester, NY and the surrounding community.</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4:11:47Z</dcterms:created>
  <dc:creator>Rob</dc:creator>
  <dc:description/>
  <dc:language>en-US</dc:language>
  <cp:lastModifiedBy>jst6884</cp:lastModifiedBy>
  <dcterms:modified xsi:type="dcterms:W3CDTF">2010-01-21T19:30:18Z</dcterms:modified>
  <cp:revision>44</cp:revision>
  <dc:subject/>
  <dc:title>Financial </dc:title>
</cp:coreProperties>
</file>