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DF01-470F-4B6D-B007-5BA63C6F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824-0CE2-48E6-B289-C8BEA353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CF9-7310-464D-91F1-76FA1240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712-F736-4BB2-A84C-0A5782A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C36-A09A-4213-889C-0E77E637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71B-2400-4C85-BA4D-64CDA065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407E-DFCE-4134-84FA-CF329873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B131-0079-46E7-B4D7-3AA7BE2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0BEE-92C9-4CFB-BF22-4BDB035C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37C3-D5A7-4330-B2D6-A42F95E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AA6D-06EB-4E25-8D87-D4ABC96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7FC6-9346-4840-A6FA-98881D5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421-44A3-43C2-AB3A-04DB23D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A7D-9DD2-4677-86BB-0430388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EA4-4886-4AB4-8584-54C7C2E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816F-70E2-4BF4-9EC1-3B2C234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9C6-A3EE-4A94-B46D-FAE22F0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8A9-FD28-4D9F-875E-B8F1CFF6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1DB2-CC69-4004-B167-A7219854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48D-96DE-43B1-B672-8A8360C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10F-1FAA-4361-9621-AA067B32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EF-2211-4C9C-8827-86F5EF7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08D-2419-40E8-8C6D-BAC8184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052-84BA-4121-9AE4-8617E49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F4A-8B3A-4753-AA48-B6C0750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EB9-FE5A-4468-911C-4B1EE2F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B0A1-9629-4515-9349-65A8BF9EE2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7742-5766-4B77-A611-3092378B4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15A1-9D19-4B25-A0DF-67F77F42FB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Torrent Framewor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gh-performance Data Transfer and Data Sharing Framework for Scientific Compu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82D-DCCD-48EF-A6EB-31D034B0F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P and GridTorrent Framework tests cases were conducted both in LAN and WAN type of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and client machines’ specification and loc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ize is 300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2971800"/>
          <a:ext cx="8269200" cy="3448080"/>
        </p:xfrm>
        <a:graphic>
          <a:graphicData uri="http://schemas.openxmlformats.org/drawingml/2006/table">
            <a:tbl>
              <a:tblPr/>
              <a:tblGrid>
                <a:gridCol w="838080"/>
                <a:gridCol w="2584440"/>
                <a:gridCol w="1835280"/>
                <a:gridCol w="1395360"/>
                <a:gridCol w="1616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(R) Quad-Core Xeon(TM) 4x2.33GHz CPU with 8GB of RAM on Red Hat Enterprise Linux 4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NetXtreme II BCM5708 1000Base-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Fire V880 8x1.2GHz UltraSPARC III processors with 16GB of RAM on Solaris 9. It has 6x72GB 10K rpm internal H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Pentium III 731MHz CPU with 512MB of RAM on GNU/Linux 2.6.20-1.2316.fc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 State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ahassee, F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B15A-B167-41A5-BFAE-2F89346B6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Set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Indianapolis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2514600"/>
            <a:ext cx="403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configuration for 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8" descr=""/>
          <p:cNvPicPr/>
          <p:nvPr/>
        </p:nvPicPr>
        <p:blipFill>
          <a:blip r:embed="rId1"/>
          <a:stretch/>
        </p:blipFill>
        <p:spPr>
          <a:xfrm>
            <a:off x="4648320" y="1725480"/>
            <a:ext cx="4038480" cy="817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. Regular Java sockets are used for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4" descr=""/>
          <p:cNvPicPr/>
          <p:nvPr/>
        </p:nvPicPr>
        <p:blipFill>
          <a:blip r:embed="rId2"/>
          <a:stretch/>
        </p:blipFill>
        <p:spPr>
          <a:xfrm>
            <a:off x="4983120" y="2819520"/>
            <a:ext cx="3025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6F6-4786-46C0-82C9-0FBE1AC72D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ignificant improvement in bandwidth for both PTCP and 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transfer (80-100 Mbps) rate is much lower the theoretical (1000Mbps) and measured data transfer rate (857Mb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4890960" y="2324160"/>
            <a:ext cx="3554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B6B-5407-4FC0-9D88-430A95D690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Regular Java socke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ata 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2"/>
          <a:stretch/>
        </p:blipFill>
        <p:spPr>
          <a:xfrm>
            <a:off x="4730760" y="2975040"/>
            <a:ext cx="3422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8D0C-AE12-422E-B9B1-8F1AD431C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idth usage is vastly improved in both GTF and P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CP’s bandwidth utilization rate has risen steadily until fifteen stre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peak value is 118 Mb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TF’s bandwidth utilization rate has risen steadily until thirteen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idTorrent is performing better than PTCP when parallel streams number is less than f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1"/>
          <a:stretch/>
        </p:blipFill>
        <p:spPr>
          <a:xfrm>
            <a:off x="4867200" y="2349360"/>
            <a:ext cx="360036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812-BD07-44CB-B9E1-A1B21B4BE0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des Java socket, other data transfer protocols can be exploited in GridTorren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parallel TCP sockets were used between peer and see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GridTorrent client uses 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 TCP sockets in each connection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"/>
          <p:cNvPicPr/>
          <p:nvPr/>
        </p:nvPicPr>
        <p:blipFill>
          <a:blip r:embed="rId2"/>
          <a:stretch/>
        </p:blipFill>
        <p:spPr>
          <a:xfrm>
            <a:off x="5170320" y="3201840"/>
            <a:ext cx="299412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9774-BA13-4365-BCE4-CD2CB2778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arallel TCP with Bittorrent algorithm demonstrates much better bandwidth usage than standalone GridTorrent and P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attained bandwidth is around 145 Mbps which is %23 higher than PTCP’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838760" y="2344680"/>
            <a:ext cx="3657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9489-9ECB-4173-90C9-64D4BDA1B3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rallel TCP and GridTorrent have overhead due to nature of multiple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’s communication channel overhead time can be compared to GridTorrent WS-Tracker client’s overhead time varying between 300 and 600 milli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overhead of GridTorrent is that control messages exchanged between peers to ensure strictly enforced to all participating p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otal size of overhead messages is between 148KB to 169 K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7FD-DE2B-49EE-A007-D6DE58C3FD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FB2E-E78E-4CFD-A15F-40236EDD19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anks to All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863-4008-4A0C-9BAA-CF93E5335D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5756-D9AC-4336-9F21-6EA2756680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omputational science is data-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 Hadron Collider (LHC) experiment at CERN generates petabytes of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ility, replication and creation of the data are made very eas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ational Gr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0DF-19A3-4BBD-BDA7-FD6D2055C3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s geographic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re 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environment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should be used in efficient and effectiv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54A-282D-47B6-8D50-1DFF42EC4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has a performance problem over W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veloped to solve the above problem by using strip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4648320" y="2178000"/>
            <a:ext cx="4038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9664-9AAD-4D39-89CB-D2077C500C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i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provide collaboration environment for dispersed us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make data transfer, management, and sharing easy via content 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use systems resources efficiently and effectively by harnessing P2P (Bittorrent) network 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1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40384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86F-7486-4C03-8465-6D6990614C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on &amp; Content Mana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Manager allows users to publish or share their files with selected access control 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aboration Manager permits users to build a virtual sharing environment by managing working groups or friend 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86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495680" y="441972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enforce access control rights for a give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nager handles the users’ task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E93-FA70-440A-A0DA-C2489CF3AA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sponsibl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itiating actual data publish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sharing with other GTF clien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suring secure environment for the above activ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4648320" y="226224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D119-AB92-4A54-A2AB-81685979A7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S-Trac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-Tracker is a WS enabled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ssists in the communication between peers (GridTorrent cli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livers task lists which is generated by users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pplies ACL of each shared file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3:25:39Z</dcterms:created>
  <dc:creator>.</dc:creator>
  <dc:description/>
  <dc:language>en-US</dc:language>
  <cp:lastModifiedBy>wmlsetup</cp:lastModifiedBy>
  <dcterms:modified xsi:type="dcterms:W3CDTF">2008-12-10T19:02:50Z</dcterms:modified>
  <cp:revision>26</cp:revision>
  <dc:subject/>
  <dc:title>GridTorrent Framework:  A High-performance Data Transfer and Data Sharing Framework for Scientific Computing </dc:title>
</cp:coreProperties>
</file>