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386A-27A3-4DBA-BBDB-3E6CE45B5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A161-1CD9-4A71-9633-BA2564614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2D28-03C9-4683-B8EF-8E509102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D64-A345-4C96-90FD-211ED42D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6E9F-DF25-4289-A2E0-CAED0B2B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76E5-46AB-4CC1-9785-59628A5D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72F1-CFE7-4071-ADD3-744DB37A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51FC-BF6D-4D7B-B2AE-14B48AB0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09EE-8A21-4670-9D9C-A9BBFD40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12CD-5C7C-4B3A-90B5-6657C6CE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6E22-4B4A-418D-AC2E-312D7775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074C-3E9F-4984-9F35-9AE75BD9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7F46-D1F4-4F91-B904-6C908F78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DA1-2965-4AF0-BDB4-5139AF4D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E65A-AA11-4138-9BA1-B3D779F9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A9FD-DB11-42EC-B6B6-DC2B6213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1740-EE46-4601-984B-3FDAE617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1A31-5511-4C92-9B03-3831F8A3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0B4C-CD7A-4748-9D0E-BDEE3309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61F7-789D-46A3-8236-991DC119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A99-D4E1-4C9F-8C29-A8AC6FC8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C8C1-28B7-492B-9476-8E9DB283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6EDA-914C-4146-9389-8AD8CE3F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A7A-7A83-4448-82AD-22AFB1FC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128-33FC-4C97-99C1-5CECBACF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C7C-84D3-4A72-873A-81E24ABF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8425-8F41-4473-A548-4CB62CACD2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FB96-042E-47EA-A5F4-8F8F1E3F3E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BC0C-2063-4BDC-9521-B8311E598A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dTorrent Framework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igh-performance Data Transfer and Data Sharing Framework for Scientific Compu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9B7B-7C7A-431C-8053-F76DA65723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CP and GridTorrent Framework tests cases were conducted both in LAN and WAN type of comput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 and client machines’ specification and loca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size is 300 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33520" y="2971800"/>
          <a:ext cx="8269200" cy="3448080"/>
        </p:xfrm>
        <a:graphic>
          <a:graphicData uri="http://schemas.openxmlformats.org/drawingml/2006/table">
            <a:tbl>
              <a:tblPr/>
              <a:tblGrid>
                <a:gridCol w="838080"/>
                <a:gridCol w="2584440"/>
                <a:gridCol w="1835280"/>
                <a:gridCol w="1395360"/>
                <a:gridCol w="16160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(R) Quad-Core Xeon(TM) 4x2.33GHz CPU with 8GB of RAM on Red Hat Enterprise Linux 4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adcom NetXtreme II BCM5708 1000Base-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na Univers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mington, 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 Fire V880 8x1.2GHz UltraSPARC III processors with 16GB of RAM on Solaris 9. It has 6x72GB 10K rpm internal H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bit Ethernet and 10/100-BaseT Etherne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na Univers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mington, 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al Pentium III 731MHz CPU with 512MB of RAM on GNU/Linux 2.6.20-1.2316.fc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bit Ethernet and 10/100-BaseT Etherne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ida State Univers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ahassee, F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F910-5312-40D2-94FF-A53D5D7E10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AN Test Setu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is located at Bloomington,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is at Indianapolis,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parallel TCP streams between server and client has increased from 1 to 16 (PT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seeders increased from 1 to 16 (GT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648320" y="2514600"/>
            <a:ext cx="4038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and server configuration for P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8" descr=""/>
          <p:cNvPicPr/>
          <p:nvPr/>
        </p:nvPicPr>
        <p:blipFill>
          <a:blip r:embed="rId1"/>
          <a:stretch/>
        </p:blipFill>
        <p:spPr>
          <a:xfrm>
            <a:off x="4648320" y="1725480"/>
            <a:ext cx="4038480" cy="8175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4"/>
          <p:cNvSpPr/>
          <p:nvPr/>
        </p:nvSpPr>
        <p:spPr>
          <a:xfrm>
            <a:off x="4648320" y="5562720"/>
            <a:ext cx="4038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Torrent test case configuration for L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. Regular Java sockets are used for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4" descr=""/>
          <p:cNvPicPr/>
          <p:nvPr/>
        </p:nvPicPr>
        <p:blipFill>
          <a:blip r:embed="rId2"/>
          <a:stretch/>
        </p:blipFill>
        <p:spPr>
          <a:xfrm>
            <a:off x="4983120" y="2819520"/>
            <a:ext cx="30258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3360-261B-4022-B945-9456F56502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AN Test Resul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significant improvement in bandwidth for both PTCP and G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data transfer (80-100 Mbps) rate is much lower the theoretical (1000Mbps) and measured data transfer rate (857Mb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1" descr=""/>
          <p:cNvPicPr/>
          <p:nvPr/>
        </p:nvPicPr>
        <p:blipFill>
          <a:blip r:embed="rId1"/>
          <a:stretch/>
        </p:blipFill>
        <p:spPr>
          <a:xfrm>
            <a:off x="4890960" y="2324160"/>
            <a:ext cx="35546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0E47-48CF-4786-821B-3567A1CB7C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N Test-I Setup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240" y="15998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is located at Bloomington,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is at Tallahassee, F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parallel TCP streams between server and client has increased from 1 to 16 (PT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seeders increased from 1 to 16 (GT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648320" y="24382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and server layout for PTCP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648320" y="5562720"/>
            <a:ext cx="4038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Torrent test case configuration for wi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a network test. Regular Java sockets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data transf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1"/>
          <a:stretch/>
        </p:blipFill>
        <p:spPr>
          <a:xfrm>
            <a:off x="4648320" y="1687680"/>
            <a:ext cx="4038480" cy="815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2"/>
          <a:stretch/>
        </p:blipFill>
        <p:spPr>
          <a:xfrm>
            <a:off x="4730760" y="2975040"/>
            <a:ext cx="34225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DC8E-5F28-47D5-9C48-3263A3D14E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N Test-I Resul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dwidth usage is vastly improved in both GTF and PTC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TCP’s bandwidth utilization rate has risen steadily until fifteen strea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 peak value is 118 Mb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TF’s bandwidth utilization rate has risen steadily until thirteen str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idTorrent is performing better than PTCP when parallel streams number is less than fiv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6" descr=""/>
          <p:cNvPicPr/>
          <p:nvPr/>
        </p:nvPicPr>
        <p:blipFill>
          <a:blip r:embed="rId1"/>
          <a:stretch/>
        </p:blipFill>
        <p:spPr>
          <a:xfrm>
            <a:off x="4867200" y="2349360"/>
            <a:ext cx="360036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9DEF-C587-40E9-A075-FAA57EF7CE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N Test-II Setup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28240" y="1447920"/>
            <a:ext cx="4267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er is located at Bloomington,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 is at Tallahassee, F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umber of parallel TCP streams between server and client has increased from 1 to 16 (PTC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ides Java socket, other data transfer protocols can be exploited in GridTorrent 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umber of seeders increased from 1 to 16 (GT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parallel TCP sockets were used between peer and see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648320" y="24382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and server layout for PTCP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648320" y="5562720"/>
            <a:ext cx="4038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Torrent test case configuration for wi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a network test. GridTorrent client uses 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llel TCP sockets in each connection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ry sour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3" descr=""/>
          <p:cNvPicPr/>
          <p:nvPr/>
        </p:nvPicPr>
        <p:blipFill>
          <a:blip r:embed="rId1"/>
          <a:stretch/>
        </p:blipFill>
        <p:spPr>
          <a:xfrm>
            <a:off x="4648320" y="1687680"/>
            <a:ext cx="4038480" cy="815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6" descr=""/>
          <p:cNvPicPr/>
          <p:nvPr/>
        </p:nvPicPr>
        <p:blipFill>
          <a:blip r:embed="rId2"/>
          <a:stretch/>
        </p:blipFill>
        <p:spPr>
          <a:xfrm>
            <a:off x="5170320" y="3201840"/>
            <a:ext cx="2994120" cy="24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45D7-7479-44DA-8568-F919A22B05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N Test-II Resul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parallel TCP with Bittorrent algorithm demonstrates much better bandwidth usage than standalone GridTorrent and PTC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ximum attained bandwidth is around 145 Mbps which is %23 higher than PTCP’s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9" descr=""/>
          <p:cNvPicPr/>
          <p:nvPr/>
        </p:nvPicPr>
        <p:blipFill>
          <a:blip r:embed="rId1"/>
          <a:stretch/>
        </p:blipFill>
        <p:spPr>
          <a:xfrm>
            <a:off x="4838760" y="2344680"/>
            <a:ext cx="36576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FA5E-6DD9-450A-8BC4-AF853BA3DE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parallel TCP and GridTorrent have overhead due to nature of multiple parallel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TCP’s communication channel overhead time can be compared to GridTorrent WS-Tracker client’s overhead time varying between 300 and 600 milliseco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overhead of GridTorrent is that control messages exchanged between peers to ensure strictly enforced to all participating pe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total size of overhead messages is between 148KB to 169 KB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1D5A-EE35-458F-8FD4-C19A354E19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AA3F-B238-410E-A635-28D7FE952F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hanks to All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492A-37FA-4281-9605-24D333D651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dTorren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N Test 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AN Test 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7A93-997F-4729-92C8-52049FB45B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’s computational science is data-int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rge Hadron Collider (LHC) experiment at CERN generates petabytes of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bility, replication and creation of the data are made very easy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rne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utational Gri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5E21-C2C7-40D1-B8DD-2A467DD1CA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ta is geographically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are disper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on environments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should be used in efficient and effectiv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C786-A0B9-499A-9D4F-49D5714760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TC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has a performance problem over W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developed to solve the above problem by using striping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4648320" y="2178000"/>
            <a:ext cx="40384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2B1B-CBD2-4F84-A61B-61A2FFCA36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ridTorrent Framewor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im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provide collaboration environment for dispersed us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make data transfer, management, and sharing easy via content manag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use systems resources efficiently and effectively by harnessing P2P (Bittorrent) network struct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1" descr=""/>
          <p:cNvPicPr/>
          <p:nvPr/>
        </p:nvPicPr>
        <p:blipFill>
          <a:blip r:embed="rId1"/>
          <a:stretch/>
        </p:blipFill>
        <p:spPr>
          <a:xfrm>
            <a:off x="4648320" y="2181240"/>
            <a:ext cx="40384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3866-360A-487B-85BA-D035521951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laboration &amp; Content Manag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ent Manager allows users to publish or share their files with selected access control righ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laboration Manager permits users to build a virtual sharing environment by managing working groups or friend 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4038840" cy="2862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4495680" y="4419720"/>
            <a:ext cx="4267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L enforce access control rights for a given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nager handles the users’ task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D213-1763-4A99-BACD-35E5239246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ridTorrent Cli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responsible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itiating actual data publishing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sharing with other GTF client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suring secure environment for the above activiti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4648320" y="2262240"/>
            <a:ext cx="403848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A14A-772B-4C91-A7B4-274CFD318B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S-Track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S-Tracker is a WS enabled ser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ssists in the communication between peers (GridTorrent cli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elivers task lists which is generated by users to GridTorrent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upplies ACL of each shared file to GridTorrent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23:25:39Z</dcterms:created>
  <dc:creator>.</dc:creator>
  <dc:description/>
  <dc:language>en-US</dc:language>
  <cp:lastModifiedBy>wmlsetup</cp:lastModifiedBy>
  <dcterms:modified xsi:type="dcterms:W3CDTF">2008-12-10T19:02:50Z</dcterms:modified>
  <cp:revision>26</cp:revision>
  <dc:subject/>
  <dc:title>GridTorrent Framework:  A High-performance Data Transfer and Data Sharing Framework for Scientific Computing </dc:title>
</cp:coreProperties>
</file>