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D13-9B24-4501-B253-E49E9286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4DA-7C98-4877-92B9-E334C49C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87C-EFFB-44D1-B2C2-34D33330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F8B-D32F-4AD4-B8B2-02A411F1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0E4-27F8-4630-9BBA-DF5829C0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073-11FC-470B-9F79-E989D62C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FE44-9069-48A2-AC3E-F85264CB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53B-98FA-4339-A092-59508D7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FD14-8480-419F-ACAE-25E640F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97D-2F08-4F50-8AB6-51F8527C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7CB-0103-4963-B532-694E0C6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D667-1445-4C68-9BAA-B6E8CB2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B24-BC73-4128-B51B-AB44B73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92E-7375-4CAB-8A2D-B583098E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1D5-E6A5-4026-9C32-34370A4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0876-B51A-4B5F-8500-3D829B6A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BB2-DAA0-46DE-9B3A-69F79EE6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2C53-76F0-4024-8B0D-DCD3E247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5E41-1988-4F1D-A7ED-A03A6116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7E7-C7F5-4FF4-85B3-0320553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CFF-1512-4888-8687-A0D7E2F2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A9E-D05D-410A-9E62-DCDCEE12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92A-25CD-4218-9AB5-C4B7F2A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E07-D8A5-4777-AF90-FD711232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556-DC52-49AA-B05D-20C510B8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FF4-2EB2-4762-8F14-DBABCCE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B163-894F-4378-8DEE-7A9C4CEC9B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29D5-7DB6-4DD8-9FF5-054918713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C83-1BE3-44CD-8584-72CEC5911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Torrent Framewor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gh-performance Data Transfer and Data Sharing Framework for Scientific Compu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DD8-95DD-449F-87A3-95EF624DAC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P and GridTorrent Framework tests cases were conducted both in LAN and WAN type of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and client machines’ specification and loc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ize is 300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2971800"/>
          <a:ext cx="8269200" cy="3448080"/>
        </p:xfrm>
        <a:graphic>
          <a:graphicData uri="http://schemas.openxmlformats.org/drawingml/2006/table">
            <a:tbl>
              <a:tblPr/>
              <a:tblGrid>
                <a:gridCol w="838080"/>
                <a:gridCol w="2584440"/>
                <a:gridCol w="1835280"/>
                <a:gridCol w="1395360"/>
                <a:gridCol w="1616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(R) Quad-Core Xeon(TM) 4x2.33GHz CPU with 8GB of RAM on Red Hat Enterprise Linux 4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NetXtreme II BCM5708 1000Base-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Fire V880 8x1.2GHz UltraSPARC III processors with 16GB of RAM on Solaris 9. It has 6x72GB 10K rpm internal H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mington, 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Pentium III 731MHz CPU with 512MB of RAM on GNU/Linux 2.6.20-1.2316.fc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 and 10/100-BaseT Ether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 State Univers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ahassee, F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E2A-83B9-407D-84AC-16C50891A5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Set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Indianapolis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2514600"/>
            <a:ext cx="403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configuration for P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8" descr=""/>
          <p:cNvPicPr/>
          <p:nvPr/>
        </p:nvPicPr>
        <p:blipFill>
          <a:blip r:embed="rId1"/>
          <a:stretch/>
        </p:blipFill>
        <p:spPr>
          <a:xfrm>
            <a:off x="4648320" y="1725480"/>
            <a:ext cx="4038480" cy="817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4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. Regular Java sockets are used for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4" descr=""/>
          <p:cNvPicPr/>
          <p:nvPr/>
        </p:nvPicPr>
        <p:blipFill>
          <a:blip r:embed="rId2"/>
          <a:stretch/>
        </p:blipFill>
        <p:spPr>
          <a:xfrm>
            <a:off x="4983120" y="2819520"/>
            <a:ext cx="30258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560-152F-41D5-9CA8-04D1667AFB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N Test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significant improvement in bandwidth for both PTCP and 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transfer (80-100 Mbps) rate is much lower the theoretical (1000Mbps) and measured data transfer rate (857Mb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4890960" y="2324160"/>
            <a:ext cx="3554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A2B-CE45-4425-BB9F-142DF156B4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Regular Java socke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ata trans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2"/>
          <a:stretch/>
        </p:blipFill>
        <p:spPr>
          <a:xfrm>
            <a:off x="4730760" y="2975040"/>
            <a:ext cx="3422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221-94FD-4C65-A206-329BF3A2F0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idth usage is vastly improved in both GTF and P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TCP’s bandwidth utilization rate has risen steadily until fifteen stre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peak value is 118 Mb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TF’s bandwidth utilization rate has risen steadily until thirteen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idTorrent is performing better than PTCP when parallel streams number is less than f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1"/>
          <a:stretch/>
        </p:blipFill>
        <p:spPr>
          <a:xfrm>
            <a:off x="4867200" y="2349360"/>
            <a:ext cx="360036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461-99FF-45C0-A111-850D6B39F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Setup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 is located at Bloomington,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 is at Tallahassee, 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parallel TCP streams between server and client has increased from 1 to 16 (PTC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ides Java socket, other data transfer protocols can be exploited in GridTorren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seeders increased from 1 to 16 (GT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parallel TCP sockets were used between peer and see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8320" y="2438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server layout for PTC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55627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Torrent test case configuration for w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network test. GridTorrent client uses 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 TCP sockets in each connection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4648320" y="1687680"/>
            <a:ext cx="4038480" cy="81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"/>
          <p:cNvPicPr/>
          <p:nvPr/>
        </p:nvPicPr>
        <p:blipFill>
          <a:blip r:embed="rId2"/>
          <a:stretch/>
        </p:blipFill>
        <p:spPr>
          <a:xfrm>
            <a:off x="5170320" y="3201840"/>
            <a:ext cx="299412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1FCF-8336-4DAA-B177-3CFDAF4004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N Test-II Res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arallel TCP with Bittorrent algorithm demonstrates much better bandwidth usage than standalone GridTorrent and P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attained bandwidth is around 145 Mbps which is %23 higher than PTCP’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"/>
          <p:cNvPicPr/>
          <p:nvPr/>
        </p:nvPicPr>
        <p:blipFill>
          <a:blip r:embed="rId1"/>
          <a:stretch/>
        </p:blipFill>
        <p:spPr>
          <a:xfrm>
            <a:off x="4838760" y="2344680"/>
            <a:ext cx="3657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690-6EED-4DBD-AC9B-661CF325D6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rallel TCP and GridTorrent have overhead due to nature of multiple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’s communication channel overhead time can be compared to GridTorrent WS-Tracker client’s overhead time varying between 300 and 600 milli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overhead of GridTorrent is that control messages exchanged between peers to ensure strictly enforced to all participating p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otal size of overhead messages is between 148KB to 169 K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7DD-B692-48A8-823C-726550111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B9DC-610A-45AC-ACD3-350F655FBA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anks to All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F865-8C70-4D05-8C39-77A0EC77D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N Tes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732-9F2E-4D6C-AF0C-ABEA8D7D3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omputational science is data-in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 Hadron Collider (LHC) experiment at CERN generates petabytes of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ility, replication and creation of the data are made very eas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ational Gr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0B8-2D05-41B9-B2E1-FC7ECA5887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s geographic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re 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environment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should be used in efficient and effectiv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A82D-E1B4-416B-9F78-917981D193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TC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has a performance problem over W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veloped to solve the above problem by using strip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4648320" y="2178000"/>
            <a:ext cx="4038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ED1-8029-4E27-9684-B883875DB5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Fra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i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provide collaboration environment for dispersed us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make data transfer, management, and sharing easy via content mana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use systems resources efficiently and effectively by harnessing P2P (Bittorrent) network 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1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40384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9F49-53AB-47EB-A5AB-48B8C5127E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on &amp; Content Mana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Manager allows users to publish or share their files with selected access control 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aboration Manager permits users to build a virtual sharing environment by managing working groups or friend 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86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495680" y="441972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enforce access control rights for a give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nager handles the users’ task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965-AA08-4032-AC75-37BC2B6EA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idTorrent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sponsibl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itiating actual data publish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sharing with other GTF clien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suring secure environment for the above activ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4648320" y="226224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C4D-C327-4502-84BE-90AB54A687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S-Trac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-Tracker is a WS enabled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ssists in the communication between peers (GridTorrent cli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livers task lists which is generated by users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pplies ACL of each shared file to GridTorrent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3:25:39Z</dcterms:created>
  <dc:creator>.</dc:creator>
  <dc:description/>
  <dc:language>en-US</dc:language>
  <cp:lastModifiedBy>wmlsetup</cp:lastModifiedBy>
  <dcterms:modified xsi:type="dcterms:W3CDTF">2008-12-10T19:02:50Z</dcterms:modified>
  <cp:revision>26</cp:revision>
  <dc:subject/>
  <dc:title>GridTorrent Framework:  A High-performance Data Transfer and Data Sharing Framework for Scientific Computing </dc:title>
</cp:coreProperties>
</file>